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860-8A06-4F47-8018-D4CE1FE7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ED2-ECBA-4BC2-A81F-AC59A13E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6E7-3796-426B-9F7E-9B8DACF4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F25-FA96-41A4-A230-3B8587FE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C55-8CBC-4E05-AFCF-4E57526C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0593-B0EE-4671-BC5E-170361A2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DDE-E2D7-4B6D-B030-06D76C9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5B45-11A3-44CC-B93A-9340C1E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EE6-FB8B-4043-A680-210562CD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D652-25F3-4576-BDD5-D7B260E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F9BB-7BC6-45F3-9483-3918E7FD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AB5-C261-45EC-80B9-E7F73429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26D0-4964-41CA-BDE3-629F48A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C7C-C15D-4621-8581-7566DDC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EA7D-378C-4F0D-BA1F-7EF155B8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7A00-BC35-499F-886F-F5593C7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7BF7-84A9-4A62-9A02-E7B09609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E95-E673-4857-BC51-DFDA3D4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B12-7AF4-4B8B-BF8C-9D4D0AE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8DC-1D44-444B-A583-7F286099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4B2-C289-4DAB-A822-FC29431C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1E8-F05C-4A4E-BE03-397FE91D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024-31A0-4FF5-9263-11936590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071-2ACF-48B2-9B25-773D43E3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532E-E349-4812-9D3B-915C4917A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3EBE-3506-4913-A5F9-617C23339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ypes of Governmen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ief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tocra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in hands of single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itarian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ctator controls all aspects of life (Hitler- Nazi party, Mussolini- fascism, Stalin- Communist dicta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arch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ing, queen, or emperor has supreme authority (Saudi Arabia, Europe 1400s-1600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itutional Monarc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King, queen, or emperor mainly ceremonial, answer to elected legislature (U.K., Jap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These are usually not really monarchies in practice, just in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ligarch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in hands of small, powerfu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get power from number of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itary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us influence (Theocrac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(Communist par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mocra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by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democra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ople govern themselves by voting on issues as individual citizens (Ancient Gree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rect democracy (republic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ople elect representatives with power to make decisions (Ancient Rome, U.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irect Democracy,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.S. republ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branches of government (legislative, executive, judic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graphic elections for legislative (Congress), national elections with Electoral College for executive (Presi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 for individuals, usually from 2 major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itish Parlia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 (Prime Minister &amp; cabinet) &amp; legislative (Parliament) branches both in elected assem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 choose parties, not individuals (makes stronger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r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 of Commons (elected) has more power than House of Lords (honor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20:01:27Z</dcterms:created>
  <dc:creator>L-Net</dc:creator>
  <dc:description/>
  <dc:language>en-US</dc:language>
  <cp:lastModifiedBy>L-Net</cp:lastModifiedBy>
  <dcterms:modified xsi:type="dcterms:W3CDTF">2011-01-26T16:37:27Z</dcterms:modified>
  <cp:revision>13</cp:revision>
  <dc:subject/>
  <dc:title>Types of Government</dc:title>
</cp:coreProperties>
</file>